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EF24-1413-4694-8A83-7A8FEA6FB409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AEF-5AEA-4196-958C-EA834EA14078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210-8CD6-4703-9882-C88DFD52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042-A5F9-414C-A642-C211DF3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816-66B7-4421-95FD-4D33EB53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05D-0024-4198-B047-C999FDCD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728-F0B0-4DE7-827A-E7E7CD06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77F-A78D-4D57-B33F-0B6DA308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FEF-828F-47B4-8D90-CE123640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860-CB49-438E-B9CE-B86DDBB9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C49-5CD0-4F4B-9EE7-87EB80C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F87-15D1-4C2E-9444-42D81265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0E1-28B3-4BD3-B3BD-FFFDE6C7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9BE-502B-4A00-85DB-B55E63A6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9347-F481-4E29-B882-B033B1BF6F93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9000" y="3714840"/>
            <a:ext cx="5857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Jessica Monhart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jessica.monhart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amille Pitteloud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camille.pitteloud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Supervisé par Micha Her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719280" y="347760"/>
            <a:ext cx="7729560" cy="1305000"/>
          </a:xfrm>
          <a:prstGeom prst="rect">
            <a:avLst/>
          </a:prstGeom>
          <a:ln w="0">
            <a:noFill/>
          </a:ln>
        </p:spPr>
      </p:pic>
      <p:pic>
        <p:nvPicPr>
          <p:cNvPr id="50" name="Image 6" descr="Souris.jpg"/>
          <p:cNvPicPr/>
          <p:nvPr/>
        </p:nvPicPr>
        <p:blipFill>
          <a:blip r:embed="rId2"/>
          <a:stretch/>
        </p:blipFill>
        <p:spPr>
          <a:xfrm>
            <a:off x="785880" y="2000160"/>
            <a:ext cx="35002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. Calcul de la matrice de covariance 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évaluation de la relation entre les SN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matricecov&lt;-cov(t(rsnps)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&gt; matricec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,1]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[,2]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[,3]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  [,4]              [,5]              [,6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1,]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0.6666667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-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2,]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  0.6666667  0.6666667  1.33333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3,]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 1.3333333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4,]  0.6666667  0.6666667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5,]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  1.3333333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6,] -0.6666667  1.3333333  0.6666667  0.6666667  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ctangle 5" descr=""/>
          <p:cNvPicPr/>
          <p:nvPr/>
        </p:nvPicPr>
        <p:blipFill>
          <a:blip r:embed="rId1"/>
          <a:stretch/>
        </p:blipFill>
        <p:spPr>
          <a:xfrm>
            <a:off x="1579680" y="244440"/>
            <a:ext cx="56196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3. Diagonalisation de C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-&gt; obtention des vecteurs et des valeurs propr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Calibri"/>
              </a:rPr>
              <a:t>eigen(matrice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Calibri"/>
              </a:rPr>
              <a:t>$values [1]  5.154701e+00  2.845299e+00  5.529209e-16  3.268086e-16 -6.352955e-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Calibri"/>
              </a:rPr>
              <a:t>[6] -2.158371e-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-Le 1</a:t>
            </a:r>
            <a:r>
              <a:rPr b="0" lang="fr-CH" sz="16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 vecteur propre est celui qui maximise la varia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-Plus la valeur propre est grande, plus la variance est importa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792440" y="317520"/>
            <a:ext cx="5619600" cy="110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48578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4. Sélection de k vecteurs propres (2 ou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-&gt; réduction du nombre de dim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5. Projection de tous les points (souch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sur le plan formé par les k vecteurs prop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1652760" y="176040"/>
            <a:ext cx="561960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572000" y="3857760"/>
            <a:ext cx="3005280" cy="3000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4643280" y="1214280"/>
            <a:ext cx="29289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6) Résulta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omparaison de 20 souc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à partir de 9 échantill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ontenant chacun 120 SN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diffé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tangle 5" descr=""/>
          <p:cNvPicPr/>
          <p:nvPr/>
        </p:nvPicPr>
        <p:blipFill>
          <a:blip r:embed="rId1"/>
          <a:stretch/>
        </p:blipFill>
        <p:spPr>
          <a:xfrm>
            <a:off x="1865160" y="244440"/>
            <a:ext cx="5621400" cy="111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286080" y="1357200"/>
            <a:ext cx="5008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re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Exemple de résulta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2640" y="2143080"/>
            <a:ext cx="56865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Ordinateurs pas suffisamment puiss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Obligation de travailler avec de petits          échantillons  de SN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Echantillons moins représent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Risque d’obtenir des résultats moins significatif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ctangle 5" descr=""/>
          <p:cNvPicPr/>
          <p:nvPr/>
        </p:nvPicPr>
        <p:blipFill>
          <a:blip r:embed="rId1"/>
          <a:stretch/>
        </p:blipFill>
        <p:spPr>
          <a:xfrm>
            <a:off x="950760" y="103320"/>
            <a:ext cx="72295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oints positif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  Utilisation d’un outil statistique conn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  Organisation générale du cou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(nombre d’assistants par groupe d’étudiants, directives pour   les présen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oints négatif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  Crédits insuffisants par rapport au nombre d’heures de travai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2298600" y="317520"/>
            <a:ext cx="44071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8400" y="713880"/>
            <a:ext cx="8258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493560" y="798480"/>
            <a:ext cx="8479080" cy="1189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5572080" y="4429080"/>
            <a:ext cx="2928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Jessica Monhart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jessica.monhart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amille Pitteloud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camille.pitteloud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5" descr="sourisLaboratoire.jpg"/>
          <p:cNvPicPr/>
          <p:nvPr/>
        </p:nvPicPr>
        <p:blipFill>
          <a:blip r:embed="rId2"/>
          <a:stretch/>
        </p:blipFill>
        <p:spPr>
          <a:xfrm>
            <a:off x="642960" y="2643120"/>
            <a:ext cx="4152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214360"/>
            <a:ext cx="82296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térêt du pro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éthod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ifficultés du pro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2389320" y="304920"/>
            <a:ext cx="4200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242856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mparaison de souris de différentes souches sur une base de SNPs (au niveau du génome ou d’une rég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En quoi sont-elles proches ou éloignée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2577960" y="244440"/>
            <a:ext cx="4108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2876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b) Comparaison des résultats obtenus avec ceux de la littérature scient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2577960" y="244440"/>
            <a:ext cx="410868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1357200" y="2643120"/>
            <a:ext cx="59403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760" y="2142720"/>
            <a:ext cx="79293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) Comparaison des différentes méthodes d’analy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Quels sont leurs avantages et leurs  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convéni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2577960" y="244440"/>
            <a:ext cx="4108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14240" y="1857240"/>
            <a:ext cx="74296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nnaître la distance génétique entre les différentes souches de souris perm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L’obtention de meilleurs échantillonnages     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lors d’expéri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L’élimination de variables confondantes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 géné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1657440" y="244440"/>
            <a:ext cx="6291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ransformation de données génétiques en données mathéma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dage des 4 bases (A-T,C-G)  en valeurs -1,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nversion des SNPs en vec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-&gt; n SNPs stockés dans un vecteur = n dim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tangle 4" descr=""/>
          <p:cNvPicPr/>
          <p:nvPr/>
        </p:nvPicPr>
        <p:blipFill>
          <a:blip r:embed="rId1"/>
          <a:stretch/>
        </p:blipFill>
        <p:spPr>
          <a:xfrm>
            <a:off x="1603440" y="176040"/>
            <a:ext cx="56196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nalyse en composantes principales (P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Méthode permettant de réduire le nombre de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Utile car représenter graphiquement les différentes souches (vecteurs) contenant plusieurs SNPs (dimensions) est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réduction des données en 2D (voire 3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1390680" y="176040"/>
            <a:ext cx="5619600" cy="1109880"/>
          </a:xfrm>
          <a:prstGeom prst="rect">
            <a:avLst/>
          </a:prstGeom>
          <a:ln w="0">
            <a:noFill/>
          </a:ln>
        </p:spPr>
      </p:pic>
      <p:pic>
        <p:nvPicPr>
          <p:cNvPr id="66" name="Image 4" descr="imagesCAOKXBDC.jpg"/>
          <p:cNvPicPr/>
          <p:nvPr/>
        </p:nvPicPr>
        <p:blipFill>
          <a:blip r:embed="rId2"/>
          <a:stretch/>
        </p:blipFill>
        <p:spPr>
          <a:xfrm>
            <a:off x="7286760" y="357120"/>
            <a:ext cx="1123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Marche à suivr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Sélection des SNPs et des souches à compa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rsn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X.1 X1.5 X1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1,]  -1   -1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2,]  -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3,]   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4,]  -1    1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5,]   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6,]  -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1536840" y="176040"/>
            <a:ext cx="56196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9:14:12Z</dcterms:created>
  <dc:creator>Camille</dc:creator>
  <dc:description/>
  <dc:language>en-US</dc:language>
  <cp:lastModifiedBy>Jess</cp:lastModifiedBy>
  <dcterms:modified xsi:type="dcterms:W3CDTF">2010-04-14T11:51:08Z</dcterms:modified>
  <cp:revision>65</cp:revision>
  <dc:subject/>
  <dc:title>Diapositive 1</dc:title>
</cp:coreProperties>
</file>